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A3B0-A303-4DFF-9CB8-6E940D09A4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8608-30A1-4E85-AA9E-B8AEBA26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1FF3-B4DC-4DAD-AEB3-DA49E53E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91F3-6846-4CC6-B607-EDC41A1FBC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A542-B069-49CA-BDF4-7A33552A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6D66-C65B-4C52-87D2-30775043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8777-FE3E-4443-A226-C4AED500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2554-F064-4657-8985-9541ECEA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0C7D-5AFA-47E5-9B13-F74D76C6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CDEC-45AE-4612-A8AF-8E9E6753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B36E-7FAA-4CC8-9438-01D34EAA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8A30-6AC1-4CD0-B829-BA49B7C5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6408-EF05-4536-8907-9711A9EFCC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慢性心力衰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883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Ⅱ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拮抗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物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地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中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相结合，阻断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介导的血管收缩，水钠潴留，醛固酮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有血钾增高，低血压，罕见血管神经性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如氯沙坦（科素亚）、缬沙坦（代文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利尿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14280"/>
            <a:ext cx="8610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及作用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是心力衰竭治疗中改善症状的基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是心衰治疗中唯一能够控制体液潴留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能作为单一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小管特定部位钠或氯的重吸收，遏制心力衰竭时的钠潴留，减少静脉回流而减轻肺瘀血，降低心脏前负荷而改善心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呋噻米、依他尼酸、布美他尼、托拉塞米、氢氯噻嗪、螺内脂、氨苯蝶啶、阿米洛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用于对正性肌力药和利尿药无效的心力衰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脏后负荷，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轻心脏前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左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静脉，降低前负荷，也略扩张小动脉，降低后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冠心病、肺楔压增加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普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扩张小静脉和小动脉，使心脏前、后负荷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急性心肌梗塞及高血压所致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较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肼屈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小动脉，降低后负荷，用药后心输出量增加，血压不变或略降，不引起反射性心率加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肾功能不良或不耐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哌唑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静脉和动脉，用药后心输出量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缺血性心脏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显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苯地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动脉较强，降低后负荷显著，能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于对受损心脏可能发生抑制作用，一般不作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常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交感神经过度兴奋和上调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肾素血管紧张素系统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RAA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的激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肌和血管增生、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YHA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功能分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en-US" sz="2800" spc="-1" strike="noStrike">
                <a:solidFill>
                  <a:srgbClr val="046ca6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级者，以扩张型心肌病引起的心衰最为适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规药物治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无效时，可选用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禁忌症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心动过缓、二度及以上房室传导阻滞、严重周围血管疾病（如雷诺病）、重度急性心衰及支气管痉挛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注意事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必须与常规药物如地高辛、利尿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从小剂量起始，逐渐增加达最大耐受剂量并长期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密切观察患者反应，以病人能够耐受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能用于抢救治疗急性失代偿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57140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治疗慢性心功能不全的药物分类及代表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强心苷对心脏的作用、作用机制、不良反应及中毒的防治措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心苷类药物的作用机制、体内过程、临床应用、不良反应及其防治、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章药物的分类、代表药物及作用机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药物的主要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功能不全的药物治疗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正性肌力药物，加强心肌收缩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血管扩张剂和利尿剂，以减轻心脏前后负荷，并改善心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止或逆转心室重构、肥厚，防止和延缓心室重塑的进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强心苷类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rdiac glycosides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正性肌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负性频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电生理特性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神经系统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心衰患者的利尿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充血性心力衰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毒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神经系统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个体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注意避免促发中毒的各种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必要时监测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轻度中毒：停用强心苷及排钾利尿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者： ①氯化钾：口服； ②苯妥英钠及利多卡因纠正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71360"/>
            <a:ext cx="8610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房室传导阻滞，室性心律失常，病态窦房结综合征和预激综合征，梗阻性心肌病，主动脉瘤，严重的心肌衰竭性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开始治疗期评估，饮食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密切观察中毒的早期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警惕低钾的各种征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格按处方给药，不可随意加用其他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肾素血管紧张素醛固酮系统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Ⅰ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转化酶抑制剂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ACEI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ng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生成，改善血流动力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心肌及血管的肥厚和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消除、缓解慢性心力衰竭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患者症状，有效防止和逆转心肌肥厚，降低病死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咳嗽、肾功能一过性恶化、高血钾、血管性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威胁生命的不良反应（血管性水肿和无尿性肾衰竭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妊娠妇女及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应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双侧肾动脉狭窄、血肌酐明显升高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65μ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、高血钾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5m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非甾体类抗炎药会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疗效并加重其副作用，应避免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31:5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